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F398C-035A-4CEF-8004-0C3156741F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0DC2B-FD55-44A7-A34E-AA194C8AA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CFBDD-FFE0-4B94-9948-219CC37D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BA45D-D505-4CFF-9AFE-705DE65D5C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E8CA0-C722-4FD5-874A-C411AE6EE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8B0C7-BA49-4D65-BE83-AFC2BDD76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A1DFA-3AAE-4F8C-A4D3-0043454E7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CA8C8-7D7C-478C-9D92-E4660E493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93BB3-6D10-4D32-8610-9EA08AFFA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CEB99-C24B-4DE0-AAC6-C7F246DAA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66C29-928D-482A-849B-B0D354CC0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74304-6CD1-486D-B6A7-60FC7E0D4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74068-3397-4D32-9899-80ECC2191CE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NDPOP.WAV" TargetMode="External"/><Relationship Id="rId2" Type="http://schemas.openxmlformats.org/officeDocument/2006/relationships/hyperlink" Target="file:///tmp/home/.config/libreoffice/4/user/gallery/ENDPOP.WAV" TargetMode="External"/><Relationship Id="rId3" Type="http://schemas.openxmlformats.org/officeDocument/2006/relationships/hyperlink" Target="file:///tmp/home/.config/libreoffice/4/user/gallery/ENDPOP.WAV" TargetMode="External"/><Relationship Id="rId4" Type="http://schemas.openxmlformats.org/officeDocument/2006/relationships/hyperlink" Target="file:///tmp/home/.config/libreoffice/4/user/gallery/ENDPOP.WAV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第二十九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抗菌药物概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细菌耐药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68000" y="1844280"/>
            <a:ext cx="66265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产生灭活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作用靶位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胞质膜通透性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动外排系统功能增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代谢途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769840" y="1915920"/>
            <a:ext cx="54738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菌药物的常用术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菌药物作用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细菌耐药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AutoShape 16"/>
          <p:cNvSpPr/>
          <p:nvPr/>
        </p:nvSpPr>
        <p:spPr>
          <a:xfrm>
            <a:off x="1803240" y="3789360"/>
            <a:ext cx="679680" cy="593640"/>
          </a:xfrm>
          <a:prstGeom prst="hexagon">
            <a:avLst>
              <a:gd name="adj" fmla="val 28623"/>
              <a:gd name="vf" fmla="val 11547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2556000" y="2781360"/>
            <a:ext cx="4176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2556000" y="3573360"/>
            <a:ext cx="4176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20"/>
          <p:cNvSpPr/>
          <p:nvPr/>
        </p:nvSpPr>
        <p:spPr>
          <a:xfrm>
            <a:off x="2556000" y="4365720"/>
            <a:ext cx="4176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76360" y="1371240"/>
            <a:ext cx="74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抗菌药物的常用术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抗菌药物的作用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熟悉细菌耐药性产生的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418BF-1201-4411-9F47-83D8B2A9FB8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807696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概 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2720" y="1988640"/>
            <a:ext cx="7920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微生物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antimicrobial drugs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用于治疗病原微生物所致感染性疾病的药物，包括抗菌药、抗真菌药、抗病毒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化学治疗药：抗微生物药、抗寄生虫药和抗恶性肿瘤药的总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化学治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chemotherapy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对微生物或寄生虫感染及恶性肿瘤的药物治疗，简称化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332000" y="1120680"/>
            <a:ext cx="655164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866B7-D5CC-4615-93FB-7091AE7CBDA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抗菌药物的常用术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13880" y="1196640"/>
            <a:ext cx="8124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生素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antibiotics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antibacterial spectrum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抑菌药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bacteriostatic drugs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杀菌药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bactericidal drugs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活性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antibacterial activity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生素后效应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post antibiotic effect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PAE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首次接触效应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first expose effect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化疗指数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chemotherapeutic index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CI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以化疗药物的半数致死量和半数有效量的比值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E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来表示，化疗指数愈大，表明该药物的毒性越小，临床应用的价值越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2914560" y="2838600"/>
            <a:ext cx="43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增加细菌胞浆膜的通透性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3"/>
          <p:cNvSpPr/>
          <p:nvPr/>
        </p:nvSpPr>
        <p:spPr>
          <a:xfrm>
            <a:off x="2592360" y="5445000"/>
            <a:ext cx="42847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0" name="Group 4"/>
          <p:cNvGrpSpPr/>
          <p:nvPr/>
        </p:nvGrpSpPr>
        <p:grpSpPr>
          <a:xfrm>
            <a:off x="1871640" y="3890880"/>
            <a:ext cx="762120" cy="665280"/>
            <a:chOff x="1871640" y="3890880"/>
            <a:chExt cx="762120" cy="665280"/>
          </a:xfrm>
        </p:grpSpPr>
        <p:sp>
          <p:nvSpPr>
            <p:cNvPr id="131" name="AutoShape 5"/>
            <p:cNvSpPr/>
            <p:nvPr/>
          </p:nvSpPr>
          <p:spPr>
            <a:xfrm>
              <a:off x="1878120" y="39020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6"/>
            <p:cNvSpPr/>
            <p:nvPr/>
          </p:nvSpPr>
          <p:spPr>
            <a:xfrm>
              <a:off x="1871640" y="38908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AutoShape 7">
              <a:hlinkClick r:id="rId1"/>
            </p:cNvPr>
            <p:cNvSpPr/>
            <p:nvPr/>
          </p:nvSpPr>
          <p:spPr>
            <a:xfrm>
              <a:off x="1916280" y="3930480"/>
              <a:ext cx="663480" cy="574920"/>
            </a:xfrm>
            <a:prstGeom prst="hexagon">
              <a:avLst>
                <a:gd name="adj" fmla="val 28851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50000">
                  <a:srgbClr val="8ac8de"/>
                </a:gs>
                <a:gs pos="100000">
                  <a:srgbClr val="405d67"/>
                </a:gs>
              </a:gsLst>
              <a:lin ang="540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4" name="Text Box 8"/>
          <p:cNvSpPr/>
          <p:nvPr/>
        </p:nvSpPr>
        <p:spPr>
          <a:xfrm>
            <a:off x="3774960" y="2116080"/>
            <a:ext cx="213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Line 9"/>
          <p:cNvSpPr/>
          <p:nvPr/>
        </p:nvSpPr>
        <p:spPr>
          <a:xfrm>
            <a:off x="2592360" y="4437000"/>
            <a:ext cx="42847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3197160" y="3916440"/>
            <a:ext cx="342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2916360" y="1773360"/>
            <a:ext cx="35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细菌细胞壁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第二节  抗菌药物作用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9" name="Group 14"/>
          <p:cNvGrpSpPr/>
          <p:nvPr/>
        </p:nvGrpSpPr>
        <p:grpSpPr>
          <a:xfrm>
            <a:off x="1908000" y="2852640"/>
            <a:ext cx="762120" cy="665280"/>
            <a:chOff x="1908000" y="2852640"/>
            <a:chExt cx="762120" cy="665280"/>
          </a:xfrm>
        </p:grpSpPr>
        <p:sp>
          <p:nvSpPr>
            <p:cNvPr id="140" name="AutoShape 15"/>
            <p:cNvSpPr/>
            <p:nvPr/>
          </p:nvSpPr>
          <p:spPr>
            <a:xfrm>
              <a:off x="1914480" y="286380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AutoShape 16"/>
            <p:cNvSpPr/>
            <p:nvPr/>
          </p:nvSpPr>
          <p:spPr>
            <a:xfrm>
              <a:off x="1908000" y="2852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AutoShape 17">
              <a:hlinkClick r:id="rId2"/>
            </p:cNvPr>
            <p:cNvSpPr/>
            <p:nvPr/>
          </p:nvSpPr>
          <p:spPr>
            <a:xfrm>
              <a:off x="1952640" y="2892240"/>
              <a:ext cx="663480" cy="574920"/>
            </a:xfrm>
            <a:prstGeom prst="hexagon">
              <a:avLst>
                <a:gd name="adj" fmla="val 28851"/>
                <a:gd name="vf" fmla="val 115470"/>
              </a:avLst>
            </a:prstGeom>
            <a:gradFill rotWithShape="0">
              <a:gsLst>
                <a:gs pos="0">
                  <a:srgbClr val="5e765e"/>
                </a:gs>
                <a:gs pos="5000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3" name="Line 18"/>
          <p:cNvSpPr/>
          <p:nvPr/>
        </p:nvSpPr>
        <p:spPr>
          <a:xfrm>
            <a:off x="2664000" y="2421000"/>
            <a:ext cx="421308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4" name="Group 19"/>
          <p:cNvGrpSpPr/>
          <p:nvPr/>
        </p:nvGrpSpPr>
        <p:grpSpPr>
          <a:xfrm>
            <a:off x="1908000" y="1827360"/>
            <a:ext cx="762120" cy="664560"/>
            <a:chOff x="1908000" y="1827360"/>
            <a:chExt cx="762120" cy="664560"/>
          </a:xfrm>
        </p:grpSpPr>
        <p:sp>
          <p:nvSpPr>
            <p:cNvPr id="145" name="AutoShape 20"/>
            <p:cNvSpPr/>
            <p:nvPr/>
          </p:nvSpPr>
          <p:spPr>
            <a:xfrm>
              <a:off x="1914480" y="183816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AutoShape 21"/>
            <p:cNvSpPr/>
            <p:nvPr/>
          </p:nvSpPr>
          <p:spPr>
            <a:xfrm>
              <a:off x="1908000" y="18273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AutoShape 22">
              <a:hlinkClick r:id="rId3"/>
            </p:cNvPr>
            <p:cNvSpPr/>
            <p:nvPr/>
          </p:nvSpPr>
          <p:spPr>
            <a:xfrm>
              <a:off x="1952640" y="1866600"/>
              <a:ext cx="663480" cy="574560"/>
            </a:xfrm>
            <a:prstGeom prst="hexagon">
              <a:avLst>
                <a:gd name="adj" fmla="val 28869"/>
                <a:gd name="vf" fmla="val 115470"/>
              </a:avLst>
            </a:prstGeom>
            <a:gradFill rotWithShape="0">
              <a:gsLst>
                <a:gs pos="0">
                  <a:srgbClr val="5e765e"/>
                </a:gs>
                <a:gs pos="5000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8" name="Line 23"/>
          <p:cNvSpPr/>
          <p:nvPr/>
        </p:nvSpPr>
        <p:spPr>
          <a:xfrm>
            <a:off x="2592360" y="3429000"/>
            <a:ext cx="42847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24"/>
          <p:cNvSpPr/>
          <p:nvPr/>
        </p:nvSpPr>
        <p:spPr>
          <a:xfrm>
            <a:off x="2927520" y="3860640"/>
            <a:ext cx="35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细菌蛋白质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25"/>
          <p:cNvSpPr/>
          <p:nvPr/>
        </p:nvSpPr>
        <p:spPr>
          <a:xfrm>
            <a:off x="2916360" y="4843440"/>
            <a:ext cx="36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影响核酸及叶酸代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1" name="Group 27"/>
          <p:cNvGrpSpPr/>
          <p:nvPr/>
        </p:nvGrpSpPr>
        <p:grpSpPr>
          <a:xfrm>
            <a:off x="1938240" y="4869000"/>
            <a:ext cx="762120" cy="664560"/>
            <a:chOff x="1938240" y="4869000"/>
            <a:chExt cx="762120" cy="664560"/>
          </a:xfrm>
        </p:grpSpPr>
        <p:sp>
          <p:nvSpPr>
            <p:cNvPr id="152" name="AutoShape 28"/>
            <p:cNvSpPr/>
            <p:nvPr/>
          </p:nvSpPr>
          <p:spPr>
            <a:xfrm>
              <a:off x="1944720" y="487980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AutoShape 29"/>
            <p:cNvSpPr/>
            <p:nvPr/>
          </p:nvSpPr>
          <p:spPr>
            <a:xfrm>
              <a:off x="1938240" y="486900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AutoShape 30">
              <a:hlinkClick r:id="rId4"/>
            </p:cNvPr>
            <p:cNvSpPr/>
            <p:nvPr/>
          </p:nvSpPr>
          <p:spPr>
            <a:xfrm>
              <a:off x="1982880" y="4908240"/>
              <a:ext cx="663480" cy="574560"/>
            </a:xfrm>
            <a:prstGeom prst="hexagon">
              <a:avLst>
                <a:gd name="adj" fmla="val 28869"/>
                <a:gd name="vf" fmla="val 115470"/>
              </a:avLst>
            </a:prstGeom>
            <a:gradFill rotWithShape="0">
              <a:gsLst>
                <a:gs pos="0">
                  <a:srgbClr val="475e76"/>
                </a:gs>
                <a:gs pos="5000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药物作用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684360" y="1162080"/>
            <a:ext cx="7848360" cy="53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细菌耐药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17480" y="1499760"/>
            <a:ext cx="759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acterial resistan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 细菌对抗菌药不敏感的现象。可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固有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ntrinsic resistan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获得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quired resistance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交叉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ross resistance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多重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ulti-drug resistan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5B4FD-91B9-424C-91F1-A898F072347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wyf</dc:creator>
  <dc:description/>
  <dc:language>en-US</dc:language>
  <cp:lastModifiedBy>赵欣</cp:lastModifiedBy>
  <cp:lastPrinted>1899-12-30T00:00:00Z</cp:lastPrinted>
  <dcterms:modified xsi:type="dcterms:W3CDTF">2015-12-14T07:26:29Z</dcterms:modified>
  <cp:revision>62</cp:revision>
  <dc:subject/>
  <dc:title>药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